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482-05FB-453D-AD08-A72A4E66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3CE-9593-4D77-B075-77D1869E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B70-3211-42C0-AB36-F0AD8B36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6AA-E8F0-4E86-9EB8-0BB0788C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516-9272-4329-8C9F-E25D9AEE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40D-2B50-472B-90D1-CD87C5E3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CDB-34B3-4761-A957-C3F47416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DE5-D084-4EF6-A723-A58335BA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136-99F1-41E1-8351-F0A5865D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86C8-8C47-47AA-AA93-417BE5DB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3C8-880D-466B-9E39-79A5F0B3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1AE-63F0-4098-8BEA-57C292E8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B7C9-DB16-4339-8978-7A916E6CC3D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416320" y="5873760"/>
            <a:ext cx="41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7.03.1865 - 16.12.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Narutowicz"/>
          <p:cNvPicPr/>
          <p:nvPr/>
        </p:nvPicPr>
        <p:blipFill>
          <a:blip r:embed="rId1"/>
          <a:stretch/>
        </p:blipFill>
        <p:spPr>
          <a:xfrm>
            <a:off x="2484360" y="476280"/>
            <a:ext cx="3832200" cy="5165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21000" y="64468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6:36:41Z</dcterms:created>
  <dc:creator>IB</dc:creator>
  <dc:description/>
  <dc:language>en-US</dc:language>
  <cp:lastModifiedBy>rena</cp:lastModifiedBy>
  <dcterms:modified xsi:type="dcterms:W3CDTF">2013-03-05T18:41:53Z</dcterms:modified>
  <cp:revision>6</cp:revision>
  <dc:subject/>
  <dc:title>Slajd 1</dc:title>
</cp:coreProperties>
</file>